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3B9D-2596-47A4-BA21-818E57DA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A70-95D1-4E6A-81EF-6498EEB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723-4134-4507-ACAF-4BB7DB94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D8A-AAD6-492A-BE33-ABA1E0F3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244-1D3A-41DA-B6BC-137BF6BC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28B-6FDC-46BC-9B0C-9DD0669A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164-D393-449E-A6DD-415C3ACA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4B6-BB7F-4CAF-B4E1-1FB2C59C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A45-B84A-4CEC-AB4F-881C469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75F-E8C3-4E81-88D6-97EFD274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10A-52B1-45C1-A481-3D865D81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5827-4804-4A0B-93DF-E5018E32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8FD7-3048-43E0-99CD-79DC315FD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84000" y="55166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Гвозден Рос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116800" y="119700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24000" y="2708280"/>
            <a:ext cx="8281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ЉУДСКИ ОРГАНИЗАМ КА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ФИЗИОЛОШКИ РАСТВОР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3524760" y="1773360"/>
            <a:ext cx="2219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ДМ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О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2. НЕДЕЉА НАСТА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-2 obradjeno"/>
          <p:cNvPicPr/>
          <p:nvPr/>
        </p:nvPicPr>
        <p:blipFill>
          <a:blip r:embed="rId1"/>
          <a:stretch/>
        </p:blipFill>
        <p:spPr>
          <a:xfrm>
            <a:off x="4210200" y="1752480"/>
            <a:ext cx="3181320" cy="4618080"/>
          </a:xfrm>
          <a:prstGeom prst="rect">
            <a:avLst/>
          </a:prstGeom>
          <a:ln w="0">
            <a:noFill/>
          </a:ln>
        </p:spPr>
      </p:pic>
      <p:sp>
        <p:nvSpPr>
          <p:cNvPr id="84" name="Line 3"/>
          <p:cNvSpPr/>
          <p:nvPr/>
        </p:nvSpPr>
        <p:spPr>
          <a:xfrm flipH="1">
            <a:off x="390492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H="1">
            <a:off x="3905280" y="3733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 flipH="1">
            <a:off x="3904920" y="4267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 flipH="1">
            <a:off x="3904920" y="5105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 flipH="1">
            <a:off x="3904920" y="5791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05756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H="1">
            <a:off x="390492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3059280" y="26370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2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067200" y="30369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089160" y="3581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6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67200" y="41115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4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098880" y="56275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1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078000" y="49528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150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403280" y="2384280"/>
            <a:ext cx="1827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УН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хране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814400" y="3005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Метаболичк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1542960" y="33066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ГУ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2228760" y="35812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о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2228760" y="4092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плућ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1619280" y="4906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Бубрез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2228760" y="5626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фец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900000" y="40464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НОШ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О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6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317600" y="7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НЕВ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l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230480" y="1981080"/>
            <a:ext cx="671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1228680" y="2557440"/>
            <a:ext cx="671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657600" y="1981080"/>
            <a:ext cx="4343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500" spc="-1" strike="noStrike">
                <a:solidFill>
                  <a:srgbClr val="000000"/>
                </a:solidFill>
                <a:latin typeface="Arial"/>
              </a:rPr>
              <a:t>Нормално</a:t>
            </a: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sr-CS" sz="1500" spc="-1" strike="noStrike">
                <a:solidFill>
                  <a:srgbClr val="000000"/>
                </a:solidFill>
                <a:latin typeface="Arial"/>
              </a:rPr>
              <a:t>Дуготрајно</a:t>
            </a: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500" spc="-1" strike="noStrike">
                <a:solidFill>
                  <a:srgbClr val="000000"/>
                </a:solidFill>
                <a:latin typeface="Arial"/>
              </a:rPr>
              <a:t>физичко</a:t>
            </a: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sr-CS" sz="1500" spc="-1" strike="noStrike">
                <a:solidFill>
                  <a:srgbClr val="000000"/>
                </a:solidFill>
                <a:latin typeface="Arial"/>
              </a:rPr>
              <a:t>оптерећењ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447920" y="2671920"/>
            <a:ext cx="670536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ет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ечност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30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таболичк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30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купн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здавањ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ж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40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лућ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60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но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10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ецес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10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140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купн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2600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6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230480" y="5607000"/>
            <a:ext cx="671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424656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6934320" y="3332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4224240" y="5302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7020000" y="53006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Мембрански потенција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ретање јо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роз ћелијску мембрану одвија се кроз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јонске канал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ћелијске мембр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што с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е јо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 једне и друге стране мембран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злику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постој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нажна тенденција јо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ифунду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 средин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где је њихов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а ниж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600200" y="292428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259160" y="865080"/>
            <a:ext cx="4057920" cy="26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3816360" cy="4891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4572000" y="1413000"/>
            <a:ext cx="37288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Имајући у виду да су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јони носиоци електричног набо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њихово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ретање изазива промену електричног потенциј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што ј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a, K ATP-аза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електрогена пумп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помера 3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из ћелија и 2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у ћелију)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ише позитивног наелектрисањ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 налаз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 спољашње стран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ћелијске мембр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колико се нагло повећа пропустљивост ћелијске мембране за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дифузија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ствара мембрански потенцијал са негативношћу споља и позитивношћу унутар ћелијске мембране – носиоци позитивног наелектрисања улазе у ћелиј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колико се нагло повећа пропустљивост ћелијске мембране за 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дифузија 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ствара мембрански потенцијал са негативношћу унутра и позитивношћу ван ћелијске мембране – носиоци позитивног наелектрисања излазе из ћелиј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Потенцијал који </a:t>
            </a:r>
            <a:r>
              <a:rPr b="1" lang="en-US" sz="2000" spc="-1" strike="noStrike" u="sng">
                <a:solidFill>
                  <a:srgbClr val="1f497d"/>
                </a:solidFill>
                <a:uFillTx/>
                <a:latin typeface="Calibri"/>
                <a:ea typeface="Calibri"/>
              </a:rPr>
              <a:t>спречава нето-дифузију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 једне врсте јона кроз ћелијску мембрану назива се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Нернстов потенцијал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ил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равнотежни потенцијал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(енгл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quilibrium pot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за тај јон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еличину равнотежног потенцијал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дређуј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злика у концентрацијам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еког јо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 једне и са друге стране ћелијске мемб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Што ј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злика у концентрацијама већ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већа је и тежња за кретањем јона са једне на другу страну ћелијске мембране, услед чега је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редност равнотежног потенцијала већ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779480" y="4137120"/>
            <a:ext cx="558504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Равнотежни потенцијал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(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Нернстов потенцијал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) се израчунава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Нернстовом једначином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, која може да се примени за био који једновалентни јон при физиолошкој телесној температури од 37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mbria Math"/>
              </a:rPr>
              <a:t>°С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Нернстова једначина показује вредност равнотежног потенцијала за дати јон у стању његове електрохемијске равнотеже у случају да је мембрана пропустљива </a:t>
            </a:r>
            <a:r>
              <a:rPr b="1" lang="en-US" sz="2000" spc="-1" strike="noStrike" u="sng">
                <a:solidFill>
                  <a:srgbClr val="1f497d"/>
                </a:solidFill>
                <a:uFillTx/>
                <a:latin typeface="Calibri"/>
                <a:ea typeface="Calibri"/>
              </a:rPr>
              <a:t>само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 за тај јон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  <a:ea typeface="Calibri"/>
              </a:rPr>
              <a:t>Знак потенцијала има позитивну вредност ако је јон за који се израчунава негативан, и обрнуто, има негативну вредност ако је јон за који се израчунава позитива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662120" y="2679840"/>
            <a:ext cx="58197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Дифузиони потенцијал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ља разлику потенцијала дуж ћелијске мембране и настаје као последица различитих концентрација јона са једне и друге стране ћелијске мембране и њихове дифузије кроз ћелијску мембран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Дифузиони потенцијал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стаје када је ћелијска мембра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пустљива за више различитих јо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и зависи од три факто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ларности електричног набоја за сваки ј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ермеабилности мембране за сваки ј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сматраних јо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 унутрашњ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 спољашње стран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ћелијске мембран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тријум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лијум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хлорид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јон су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јзначајн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јони за настајање мембранских потенцијала у нервним и мишићним ћелија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Голдман-Хочкин-Кацова једначи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омогућава израчунавање мембранског потенцијала ако се узму у обзир три наведена јо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нач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сваког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јо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у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етерминацији волтаж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иректно ј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размер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пустљив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з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тај ј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они градијент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зитивног јона изнут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прем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пољ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(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узрокуј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електронегативнос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ну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мембр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пустљивос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тријум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лијум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канала подлеж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брз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мена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током спровођења импул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143000" y="2792520"/>
            <a:ext cx="68580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unset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Мировни мембрански потенцијал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љ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злику потенцијал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пољаш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нутраш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стране ћелијске мембран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у стању миро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ровни мембрански потенцијал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е договорно изражава као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редност унутрћелијског потенцијала у односу на ванћелијс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– мировни мембрански потенцијал од -70 mV, значи да је вредност мировног мембранског потенцијала 70 mV са негативношћу унутар ћел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638440" y="3645000"/>
            <a:ext cx="38671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ровни мембрански потенцијал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стаје као последиц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дифузионог потенциј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који је последиц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центрацијске разлике јона за које је мембрана пропустљи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вак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ј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за који је мембрана пропустљива “тежи” д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ировни мембрански потенцијал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приближи свом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равнотежном потенцијал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Самим тим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јони за које је мембрана најпропустљивиј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ће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јвиш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тица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н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вредност мировног мембранског потенциј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657360" y="4149720"/>
            <a:ext cx="78292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 стању мировања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ћелијска мембрана је око 100 пута пропустљивиј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, у односу на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Много већи однос концентрација 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од унутра као споља, у односу на концентрације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у супротном смер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Због наведених чињеница мировни мембрански потенцијал који настаје услед дифузије јона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86 m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је много ближи равнотежном потенцијалу за 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94 m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 у односу на равнотежни потенцијал за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61 m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657360" y="4149720"/>
            <a:ext cx="78292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мбрански потенција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a, K ATP-а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тинуирано пумпа три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у ванћелијски простор и два 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у цитоплазму, због чега настаје додатни степен негативности од око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4 m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Нето-мембрански потенцијал уз све факторе износ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-90 mV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иректан утицај Na, K ATP-азе је релативно мали, само 4 mV, али индиректно њен значај је суштински јер одржава концентрацијски градијент кроз ћелијску мембра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405160" y="3716280"/>
            <a:ext cx="43336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57200" y="195264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sr-CS" sz="5400" spc="-1" strike="noStrike">
                <a:solidFill>
                  <a:srgbClr val="000000"/>
                </a:solidFill>
                <a:latin typeface="Arial"/>
              </a:rPr>
              <a:t>ЧОВЕК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5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5400" spc="-1" strike="noStrike">
                <a:solidFill>
                  <a:srgbClr val="000000"/>
                </a:solidFill>
                <a:latin typeface="Arial"/>
              </a:rPr>
              <a:t>СТАР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5400" spc="-1" strike="noStrike">
                <a:solidFill>
                  <a:srgbClr val="000000"/>
                </a:solidFill>
                <a:latin typeface="Arial"/>
              </a:rPr>
              <a:t>ОНОЛИКО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5400" spc="-1" strike="noStrike">
                <a:solidFill>
                  <a:srgbClr val="000000"/>
                </a:solidFill>
                <a:latin typeface="Arial"/>
              </a:rPr>
              <a:t>КОЛИКО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5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5400" spc="-1" strike="noStrike">
                <a:solidFill>
                  <a:srgbClr val="000000"/>
                </a:solidFill>
                <a:latin typeface="Arial"/>
              </a:rPr>
              <a:t>ИЗГУБИО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5400" spc="-1" strike="noStrike">
                <a:solidFill>
                  <a:srgbClr val="000000"/>
                </a:solidFill>
                <a:latin typeface="Arial"/>
              </a:rPr>
              <a:t>ТЕЛЕСНУ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CS" sz="5400" spc="-1" strike="noStrike">
                <a:solidFill>
                  <a:srgbClr val="000000"/>
                </a:solidFill>
                <a:latin typeface="Arial"/>
              </a:rPr>
              <a:t>ВОДУ</a:t>
            </a:r>
            <a:r>
              <a:rPr b="1" i="1" lang="sr-Latn-CS" sz="5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295280" y="11430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н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ес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уп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ес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р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230480" y="2176560"/>
            <a:ext cx="671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1228680" y="2590920"/>
            <a:ext cx="6718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143000" y="2209680"/>
            <a:ext cx="685800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Старост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Мушки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пол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Оба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пол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Женски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ол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0-1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месец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 7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1-12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месеци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 6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1-10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 6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10-16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59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   5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17-39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61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   5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40-59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55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   5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52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      4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1230480" y="5486400"/>
            <a:ext cx="6717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03848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326160" y="549360"/>
            <a:ext cx="85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..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к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ес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њ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СТРИБУ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ељци телесних течности са главним електроли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Vladimir Zivkovic\Desktop\GANONG\SLIKE\I POGLAVLjE\PNG\Gan024_Slika_01-01.png"/>
          <p:cNvPicPr/>
          <p:nvPr/>
        </p:nvPicPr>
        <p:blipFill>
          <a:blip r:embed="rId1"/>
          <a:srcRect l="793" t="62882" r="0" b="649"/>
          <a:stretch/>
        </p:blipFill>
        <p:spPr>
          <a:xfrm>
            <a:off x="611280" y="1989000"/>
            <a:ext cx="77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59753" t="27190" r="13009" b="23597"/>
          <a:stretch/>
        </p:blipFill>
        <p:spPr>
          <a:xfrm>
            <a:off x="4067280" y="1197000"/>
            <a:ext cx="3529080" cy="36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rcRect l="26957" t="27190" r="51922" b="23597"/>
          <a:stretch/>
        </p:blipFill>
        <p:spPr>
          <a:xfrm>
            <a:off x="1332000" y="1197000"/>
            <a:ext cx="273528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rcRect l="38738" t="27190" r="20765" b="66949"/>
          <a:stretch/>
        </p:blipFill>
        <p:spPr>
          <a:xfrm>
            <a:off x="755640" y="907920"/>
            <a:ext cx="79200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25-3 obradjeno"/>
          <p:cNvPicPr/>
          <p:nvPr/>
        </p:nvPicPr>
        <p:blipFill>
          <a:blip r:embed="rId1"/>
          <a:stretch/>
        </p:blipFill>
        <p:spPr>
          <a:xfrm>
            <a:off x="3882960" y="1143000"/>
            <a:ext cx="1298520" cy="4989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835280" y="40464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електролити плаз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952880" y="1844640"/>
            <a:ext cx="32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Фосфолипид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280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мг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л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(5-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o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932360" y="3429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Холестерол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150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мг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л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(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o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691160" y="42339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еутралн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маст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12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788000" y="4581360"/>
            <a:ext cx="302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Глукоз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1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/dl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(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o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289400" y="491976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Уре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1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648320" y="5135400"/>
            <a:ext cx="2819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Млечн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иселин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670280" y="53434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Мокраћн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иселин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4462560" y="5527800"/>
            <a:ext cx="2819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реатинин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1.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4419720" y="572292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Билирубин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0.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495680" y="59850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Жучне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ол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трагу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3886200" y="2971800"/>
            <a:ext cx="990720" cy="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3886200" y="4114800"/>
            <a:ext cx="990720" cy="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>
            <a:off x="3886200" y="4832280"/>
            <a:ext cx="990720" cy="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>
            <a:off x="3886200" y="5367240"/>
            <a:ext cx="990720" cy="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3886200" y="5514840"/>
            <a:ext cx="990720" cy="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>
            <a:off x="3895560" y="5600880"/>
            <a:ext cx="990720" cy="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3895560" y="5653080"/>
            <a:ext cx="990720" cy="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3909960" y="5695920"/>
            <a:ext cx="990720" cy="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3886200" y="5734080"/>
            <a:ext cx="990720" cy="0"/>
          </a:xfrm>
          <a:prstGeom prst="line">
            <a:avLst/>
          </a:prstGeom>
          <a:ln w="3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28:45Z</dcterms:modified>
  <cp:revision>165</cp:revision>
  <dc:subject/>
  <dc:title>ФИЗИОЛОГИЈА КРВИ</dc:title>
</cp:coreProperties>
</file>